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45A-E20A-4D16-900A-72CDE440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C17-3E87-4B6B-964A-BF422A1F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B42-DF0A-467F-9A9D-151A779E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6EA-173C-442E-AFBC-F0E5D528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40E-D0F1-4BD3-86DE-2FEA77FD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14F-DF6C-4C37-8B4C-E4201F3A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96F-962A-47C0-BC58-24EE2479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2ACF-048E-4FF4-A697-71B065F4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FFA-2DC0-4E6D-979D-12387458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A1B-D6BE-41F5-A857-2DBCD319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D33-857A-45AB-8894-16009BB7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796-8226-4102-9E13-5C63D81C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FF7C-D478-4C2C-AFFF-E05F33803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amlegends.com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m Leg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 Cody R. Critch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 some my prediction was right for some of my tester but for others it was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 it really doesn’t matter what hand you use its what ever is 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d people play better with their left or their right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predict that they will play better with their left hand. Because they will not click on some thing with their wr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teri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ou ne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uter( with Inter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t player to 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jamlegends.co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n have them read dir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xt tell then to click play if they are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ticip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unter Hewit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ogan J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ash Farn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ustin My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ed Dierk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ylee 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inley R. Farn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risty Riff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ng And Difficult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Name of the song that I chose is called; On The R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difficulty is set on normal 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ssible cause of Err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l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ria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dependent Vari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ying On The Ro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n Normal t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r on easy and just hitting the butt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04:45Z</dcterms:created>
  <dc:creator>USD376</dc:creator>
  <dc:description/>
  <dc:language>en-US</dc:language>
  <cp:lastModifiedBy>USD376</cp:lastModifiedBy>
  <dcterms:modified xsi:type="dcterms:W3CDTF">2010-03-01T20:10:46Z</dcterms:modified>
  <cp:revision>7</cp:revision>
  <dc:subject/>
  <dc:title>  Jam Legends</dc:title>
</cp:coreProperties>
</file>